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 to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5C09-DF4D-4D6F-BE82-74709B5E2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Click to move the slide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E346-987F-4D92-A8D2-9F65C7E88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189"/>
                </a:solidFill>
                <a:latin typeface="Arial"/>
              </a:rPr>
              <a:t>Intro to Computers</a:t>
            </a:r>
            <a:endParaRPr b="0" lang="en-US" sz="1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7219-5763-417F-B72E-5668D62C9742}" type="datetime">
              <a:rPr b="0" lang="en-US" sz="12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45BB-6D00-4F59-BA4A-70521B9D8659}" type="slidenum">
              <a:rPr b="0" lang="en-US" sz="12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2C36-0FB8-493C-AA1B-1DB093982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BD32-6313-4C00-AB1A-2D0BBAF6A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98C2-C06E-4933-A93F-C70F09471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BDC8-6E37-4CB9-AA4C-C43004DF5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DE39-37EE-4921-8E31-E68A4B6BAE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150F-0CA4-44F9-A9F8-E309DFC167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D025-F548-4E4D-A81D-164B5EF022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1F2B-93E7-46DB-AA77-2ACFFBE398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0456-715B-4FAE-BFC5-59A02EC753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874E-03B5-4322-926F-30EFB7F485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F1D2-54E5-42A9-9105-A92AF66E7E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3695-2DD5-44C8-B044-453EDE4EB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72E4-CDED-4779-B4E3-9E861CC894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8310-4D14-40D0-92A3-20BCE7F30F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7717-1C89-49C4-9944-B5DAF4EDB7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2913-C221-4EC9-9DAE-3A15B28D7F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D6DF-2F52-4EE7-B075-DF082BE6AF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AB25-B5AD-4522-AEC4-3D13CAF58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62DE-3729-4857-A072-E0010A776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DB13-AF97-44C5-8B4E-D2394A953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FE4E-B913-473D-9FF6-2D056E007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A429-B23C-41C1-8784-547D76EF0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E1D3-5D46-42AD-A213-9A01A70E6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A3C9-9B9D-4734-A3E5-9811E4BE9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1" marL="579240" indent="-22284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2" marL="89136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3" marL="124812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4" marL="160452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5" marL="160452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6" marL="160452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1371600" y="609552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54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3626-096B-416D-B860-991CFA550673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1" marL="579240" indent="-22284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2" marL="89136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3" marL="124812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4" marL="160452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5" marL="160452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6" marL="1604520" indent="-17820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-53352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54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D9D2-0E53-440B-8602-BE5E7B6A2F7B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6"/>
          <p:cNvSpPr/>
          <p:nvPr/>
        </p:nvSpPr>
        <p:spPr>
          <a:xfrm>
            <a:off x="-53352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5F13-3623-4159-9718-0B67689F61E9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680" y="2133360"/>
            <a:ext cx="6553440" cy="2361960"/>
          </a:xfrm>
          <a:prstGeom prst="rect">
            <a:avLst/>
          </a:prstGeom>
          <a:solidFill>
            <a:srgbClr val="99ccff">
              <a:alpha val="37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7a"/>
                </a:solidFill>
                <a:latin typeface="Impact"/>
              </a:rPr>
              <a:t>Our </a:t>
            </a:r>
            <a:r>
              <a:rPr b="0" i="1" lang="en-US" sz="13800" spc="-1" strike="noStrike">
                <a:solidFill>
                  <a:srgbClr val="00007a"/>
                </a:solidFill>
                <a:latin typeface="Impact"/>
              </a:rPr>
              <a:t>Digital</a:t>
            </a:r>
            <a:br>
              <a:rPr sz="13800"/>
            </a:br>
            <a:r>
              <a:rPr b="0" i="1" lang="en-US" sz="7200" spc="-1" strike="noStrike">
                <a:solidFill>
                  <a:srgbClr val="00007a"/>
                </a:solidFill>
                <a:latin typeface="Impact"/>
              </a:rPr>
              <a:t>World</a:t>
            </a:r>
            <a:endParaRPr b="0" lang="en-US" sz="7200" spc="-1" strike="noStrike">
              <a:solidFill>
                <a:srgbClr val="000054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IP Cycle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451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Times New Roman"/>
              </a:rPr>
              <a:t>Input</a:t>
            </a: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—data entered into a computer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451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Times New Roman"/>
              </a:rPr>
              <a:t>Processing—</a:t>
            </a: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manipulating data according to the program’s instructions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451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Times New Roman"/>
              </a:rPr>
              <a:t>Storage—</a:t>
            </a: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saving for future use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451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Times New Roman"/>
              </a:rPr>
              <a:t>Output—</a:t>
            </a: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the result of processing data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3D40-84A5-4C30-8E97-FD65CBA64B67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Computer Systems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54"/>
                </a:solidFill>
                <a:latin typeface="Times New Roman"/>
              </a:rPr>
              <a:t>System unit</a:t>
            </a: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—the part of a computer system that processes data and stores information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54"/>
                </a:solidFill>
                <a:latin typeface="Times New Roman"/>
              </a:rPr>
              <a:t>Computer system—</a:t>
            </a: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the system unit along with input devices, output devices 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A016-E034-4EF2-BA39-B3F7D48A3D62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1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C875-4008-4DFE-A746-1F98400B481B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3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54"/>
                </a:solidFill>
                <a:latin typeface="Impact"/>
              </a:rPr>
              <a:t>Hardware</a:t>
            </a:r>
            <a:endParaRPr b="0" lang="en-US" sz="54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62120" y="1828800"/>
            <a:ext cx="7848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The physical components that make up the system unit plus the peripheral devices connected to it.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54"/>
                </a:solidFill>
                <a:latin typeface="Times New Roman"/>
              </a:rPr>
              <a:t>Peripheral device: </a:t>
            </a: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 any device connected to the outside of the system unit.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7151-124D-4D1C-839A-F6C7294DDA3A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System Unit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spcAft>
                <a:spcPts val="451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The main circuit board of a computer is the </a:t>
            </a:r>
            <a:r>
              <a:rPr b="1" i="1" lang="en-US" sz="3600" spc="-1" strike="noStrike">
                <a:solidFill>
                  <a:srgbClr val="000054"/>
                </a:solidFill>
                <a:latin typeface="Times New Roman"/>
              </a:rPr>
              <a:t>motherboard.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spcAft>
                <a:spcPts val="451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The </a:t>
            </a:r>
            <a:r>
              <a:rPr b="1" i="1" lang="en-US" sz="3600" spc="-1" strike="noStrike">
                <a:solidFill>
                  <a:srgbClr val="000054"/>
                </a:solidFill>
                <a:latin typeface="Times New Roman"/>
              </a:rPr>
              <a:t>central processing </a:t>
            </a: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unit is located on the motherboard. The CPU is the circuitry that processes information—the “brain” of the computer.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spcAft>
                <a:spcPts val="451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The speed of the processor is controlled by the </a:t>
            </a:r>
            <a:r>
              <a:rPr b="1" i="1" lang="en-US" sz="3600" spc="-1" strike="noStrike">
                <a:solidFill>
                  <a:srgbClr val="000054"/>
                </a:solidFill>
                <a:latin typeface="Times New Roman"/>
              </a:rPr>
              <a:t>system clock</a:t>
            </a:r>
            <a:r>
              <a:rPr b="0" i="1" lang="en-US" sz="3600" spc="-1" strike="noStrike">
                <a:solidFill>
                  <a:srgbClr val="000054"/>
                </a:solidFill>
                <a:latin typeface="Times New Roman"/>
              </a:rPr>
              <a:t>.</a:t>
            </a: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D220-6E8E-46FB-AB46-65E503B411AB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0769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54"/>
                </a:solidFill>
                <a:latin typeface="Impact"/>
              </a:rPr>
              <a:t>System Clock</a:t>
            </a:r>
            <a:endParaRPr b="0" lang="en-US" sz="54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54"/>
                </a:solidFill>
                <a:latin typeface="Times New Roman"/>
              </a:rPr>
              <a:t>Controls the timing of ALL computer operations; measured in </a:t>
            </a:r>
            <a:r>
              <a:rPr b="1" i="1" lang="en-US" sz="3400" spc="-1" strike="noStrike">
                <a:solidFill>
                  <a:srgbClr val="000054"/>
                </a:solidFill>
                <a:latin typeface="Times New Roman"/>
              </a:rPr>
              <a:t>hertz</a:t>
            </a:r>
            <a:r>
              <a:rPr b="0" lang="en-US" sz="3400" spc="-1" strike="noStrike">
                <a:solidFill>
                  <a:srgbClr val="000054"/>
                </a:solidFill>
                <a:latin typeface="Times New Roman"/>
              </a:rPr>
              <a:t>—one cycle per second. Speed is measured in </a:t>
            </a:r>
            <a:r>
              <a:rPr b="1" i="1" lang="en-US" sz="3400" spc="-1" strike="noStrike">
                <a:solidFill>
                  <a:srgbClr val="000054"/>
                </a:solidFill>
                <a:latin typeface="Times New Roman"/>
              </a:rPr>
              <a:t>gigahertz</a:t>
            </a:r>
            <a:r>
              <a:rPr b="0" i="1" lang="en-US" sz="3400" spc="-1" strike="noStrike">
                <a:solidFill>
                  <a:srgbClr val="000054"/>
                </a:solidFill>
                <a:latin typeface="Times New Roman"/>
              </a:rPr>
              <a:t> (GHz)—a billion cycles per second. </a:t>
            </a:r>
            <a:br>
              <a:rPr sz="3400"/>
            </a:br>
            <a:endParaRPr b="0" lang="en-US" sz="34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54"/>
                </a:solidFill>
                <a:latin typeface="Times New Roman"/>
              </a:rPr>
              <a:t>It takes about one-tenth of a second to blink your eye; a computer can perform some operations 10 million times in the time it takes you to blink you eye.</a:t>
            </a:r>
            <a:endParaRPr b="0" lang="en-US" sz="28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C30A-F5EF-423F-B26F-252936D97629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The most popular brand processors on the </a:t>
            </a:r>
            <a:br>
              <a:rPr sz="4800"/>
            </a:b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market are Intel and AMD.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B7A-D173-41F5-A854-96B2340ECCA5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54"/>
                </a:solidFill>
                <a:latin typeface="Impact"/>
              </a:rPr>
              <a:t>Main Memory</a:t>
            </a:r>
            <a:endParaRPr b="0" lang="en-US" sz="54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Times New Roman"/>
              </a:rPr>
              <a:t>Main memory </a:t>
            </a: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(or primary storage) is located on the motherboard: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4"/>
                </a:solidFill>
                <a:latin typeface="Times New Roman"/>
                <a:ea typeface="ＭＳ Ｐゴシック"/>
              </a:rPr>
              <a:t>RAM</a:t>
            </a:r>
            <a:r>
              <a:rPr b="0" lang="en-US" sz="3200" spc="-1" strike="noStrike">
                <a:solidFill>
                  <a:srgbClr val="000054"/>
                </a:solidFill>
                <a:latin typeface="Times New Roman"/>
                <a:ea typeface="ＭＳ Ｐゴシック"/>
              </a:rPr>
              <a:t>:  </a:t>
            </a:r>
            <a:r>
              <a:rPr b="0" i="1" lang="en-US" sz="3200" spc="-1" strike="noStrike">
                <a:solidFill>
                  <a:srgbClr val="000054"/>
                </a:solidFill>
                <a:latin typeface="Times New Roman"/>
                <a:ea typeface="ＭＳ Ｐゴシック"/>
              </a:rPr>
              <a:t>Random Access Memory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2" marL="80028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  <a:ea typeface="ＭＳ Ｐゴシック"/>
              </a:rPr>
              <a:t>Temporary memory available to the user; measured in megabytes or gigabyte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4"/>
                </a:solidFill>
                <a:latin typeface="Times New Roman"/>
                <a:ea typeface="ＭＳ Ｐゴシック"/>
              </a:rPr>
              <a:t>ROM: </a:t>
            </a:r>
            <a:r>
              <a:rPr b="0" i="1" lang="en-US" sz="3200" spc="-1" strike="noStrike">
                <a:solidFill>
                  <a:srgbClr val="000054"/>
                </a:solidFill>
                <a:latin typeface="Times New Roman"/>
                <a:ea typeface="ＭＳ Ｐゴシック"/>
              </a:rPr>
              <a:t>Read Only Memory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2" marL="80028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  <a:ea typeface="ＭＳ Ｐゴシック"/>
              </a:rPr>
              <a:t>Permanent memory that handles basic startup functions, known as BIOS—</a:t>
            </a:r>
            <a:r>
              <a:rPr b="1" i="1" lang="en-US" sz="3200" spc="-1" strike="noStrike">
                <a:solidFill>
                  <a:srgbClr val="000054"/>
                </a:solidFill>
                <a:latin typeface="Times New Roman"/>
                <a:ea typeface="ＭＳ Ｐゴシック"/>
              </a:rPr>
              <a:t>basic input/output system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F078-1ACA-4D8A-9DDD-9CB282D2799A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54"/>
                </a:solidFill>
                <a:latin typeface="Impact"/>
              </a:rPr>
              <a:t>Input Devices:</a:t>
            </a:r>
            <a:endParaRPr b="0" lang="en-US" sz="54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1696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2360" indent="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Any hardware component that allows a user to enter information into a computer</a:t>
            </a:r>
            <a:r>
              <a:rPr b="0" lang="en-US" sz="4000" spc="-1" strike="noStrike">
                <a:solidFill>
                  <a:srgbClr val="00005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54"/>
              </a:solidFill>
              <a:latin typeface="Times New Roman"/>
            </a:endParaRPr>
          </a:p>
          <a:p>
            <a:pPr marL="16236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Keyboard—most common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marL="16236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Pointing Device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marL="16236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Scanner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marL="16236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Multimedia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9D39-78FD-4940-B45F-B6E2481E3C83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Output Devices: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340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Any hardware component that can convey information to the user</a:t>
            </a: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Display devices (soft copy)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Printers (hard copy)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Speakers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8753-5F5A-479E-BC60-21D6FA0EEAC1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Storage Devices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The media on which data, instructions, and information are kept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Also known as </a:t>
            </a:r>
            <a:r>
              <a:rPr b="0" i="1" lang="en-US" sz="3800" spc="-1" strike="noStrike">
                <a:solidFill>
                  <a:srgbClr val="000054"/>
                </a:solidFill>
                <a:latin typeface="Times New Roman"/>
              </a:rPr>
              <a:t>storage media or secondary storage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Digital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54"/>
                </a:solidFill>
                <a:latin typeface="Times New Roman"/>
              </a:rPr>
              <a:t>Definition: </a:t>
            </a: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a type of electronic signal that is processed, sent and stored in discrete parts (bits) or </a:t>
            </a:r>
            <a:r>
              <a:rPr b="0" i="1" lang="en-US" sz="3800" spc="-1" strike="noStrike">
                <a:solidFill>
                  <a:srgbClr val="000054"/>
                </a:solidFill>
                <a:latin typeface="Times New Roman"/>
              </a:rPr>
              <a:t>binary digits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As opposed to an analog signal, which is a constant wave of electronic pulses.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13E-6838-4345-96DA-250CAA6545A1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Storage Devices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Three types: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1" marL="1009800" indent="-609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4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—hard disk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1009800" indent="-609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4"/>
                </a:solidFill>
                <a:latin typeface="Times New Roman"/>
              </a:rPr>
              <a:t>Optical</a:t>
            </a: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—CD, DVD, Blu-ray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1009800" indent="-609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4"/>
                </a:solidFill>
                <a:latin typeface="Times New Roman"/>
              </a:rPr>
              <a:t>Flash</a:t>
            </a: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—memory cards, flash drive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Communications Devices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A device that makes it possible for a user to communicate with another computer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Most popular: modem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Computers on a network use </a:t>
            </a:r>
            <a:r>
              <a:rPr b="0" i="1" lang="en-US" sz="3200" spc="-1" strike="noStrike">
                <a:solidFill>
                  <a:srgbClr val="000054"/>
                </a:solidFill>
                <a:latin typeface="Times New Roman"/>
              </a:rPr>
              <a:t>network interface cards (NIC)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E083-CED3-4D02-9B13-A3B9D2FCDCF2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FD0A-8D44-4EA7-AA3A-6049E98CD8A0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54"/>
                </a:solidFill>
                <a:latin typeface="Impact"/>
              </a:rPr>
              <a:t>Software</a:t>
            </a:r>
            <a:endParaRPr b="0" lang="en-US" sz="54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The instructions that allow the user to communicate with the computer; </a:t>
            </a:r>
            <a:r>
              <a:rPr b="0" i="1" lang="en-US" sz="3800" spc="-1" strike="noStrike">
                <a:solidFill>
                  <a:srgbClr val="000054"/>
                </a:solidFill>
                <a:latin typeface="Times New Roman"/>
              </a:rPr>
              <a:t>also called </a:t>
            </a:r>
            <a:r>
              <a:rPr b="1" i="1" lang="en-US" sz="3800" spc="-1" strike="noStrike">
                <a:solidFill>
                  <a:srgbClr val="000054"/>
                </a:solidFill>
                <a:latin typeface="Times New Roman"/>
              </a:rPr>
              <a:t>programs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Three categories: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System software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Application software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Communications software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1EAE-DDE0-4374-9667-9EA6FE5A9113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54"/>
                </a:solidFill>
                <a:latin typeface="Impact"/>
              </a:rPr>
              <a:t>System Software</a:t>
            </a:r>
            <a:endParaRPr b="0" lang="en-US" sz="54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5800" y="1470240"/>
            <a:ext cx="7848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Software that tells the computer how to func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4"/>
                </a:solidFill>
                <a:latin typeface="Times New Roman"/>
              </a:rPr>
              <a:t>Operating system </a:t>
            </a: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(OS)—contains startup instructions and coordinates all activitie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4"/>
                </a:solidFill>
                <a:latin typeface="Times New Roman"/>
              </a:rPr>
              <a:t>Utility—</a:t>
            </a: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runs system checks and makes sure everything is working properly; checks for viruses (programs designed to disrupt or destroy the normal operation of a computer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3CE9-B81A-462F-A68B-5818BE4153F7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54"/>
                </a:solidFill>
                <a:latin typeface="Impact"/>
              </a:rPr>
              <a:t>Application Software</a:t>
            </a:r>
            <a:endParaRPr b="0" lang="en-US" sz="54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8102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Word Processing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Spreadsheet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Presentation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Database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Painting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Drawing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Digital Imaging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Desktop Publishing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Web Design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4"/>
                </a:solidFill>
                <a:latin typeface="Times New Roman"/>
              </a:rPr>
              <a:t>Games</a:t>
            </a: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62120" y="1832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Programs that perform specific tasks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Communications Software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1676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Programs that make it possible for a computer to transmit and receive information to and from other computers.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Web Browser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Email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2583-E4D3-40ED-BE0A-891148D72B79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380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451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Computers use binary coding—a coding system that uses two numbers--</a:t>
            </a:r>
            <a:r>
              <a:rPr b="0" i="1" lang="en-US" sz="3600" spc="-1" strike="noStrike">
                <a:solidFill>
                  <a:srgbClr val="000054"/>
                </a:solidFill>
                <a:latin typeface="Times New Roman"/>
              </a:rPr>
              <a:t>1 &amp; 0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451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In computer terms, the </a:t>
            </a:r>
            <a:r>
              <a:rPr b="1" i="1" lang="en-US" sz="3600" spc="-1" strike="noStrike">
                <a:solidFill>
                  <a:srgbClr val="000054"/>
                </a:solidFill>
                <a:latin typeface="Times New Roman"/>
              </a:rPr>
              <a:t>bit </a:t>
            </a: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is the smallest unit of measurement a computer can understand</a:t>
            </a:r>
            <a:br>
              <a:rPr sz="3600"/>
            </a:br>
            <a:r>
              <a:rPr b="0" lang="en-US" sz="3600" spc="-1" strike="noStrike">
                <a:solidFill>
                  <a:srgbClr val="00005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EB46-5AA5-45FF-ADAE-21181878D4C1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Digital Processing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6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Digital processing occurs within miniature electrical circuits etched onto tiny squares of silicon called a </a:t>
            </a:r>
            <a:r>
              <a:rPr b="1" lang="en-US" sz="3800" spc="-1" strike="noStrike">
                <a:solidFill>
                  <a:srgbClr val="000054"/>
                </a:solidFill>
                <a:latin typeface="Times New Roman"/>
              </a:rPr>
              <a:t>chip</a:t>
            </a: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. 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19DC-FE26-46BA-B729-C2AC3221FE8E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Computerized vs. Computer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Chips are used in both computerized devices and computers. 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4"/>
                </a:solidFill>
                <a:latin typeface="Times New Roman"/>
              </a:rPr>
              <a:t>Embedded </a:t>
            </a: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computer—a device that is designed to perform a few specific action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4"/>
                </a:solidFill>
                <a:latin typeface="Times New Roman"/>
              </a:rPr>
              <a:t>General-purpose </a:t>
            </a: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computer—a device that can perform a wide range of processe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8AF8-8E87-42D4-8AF0-4E4BF3313F65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Computer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A computer is an electronic device that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>
              <a:spcBef>
                <a:spcPts val="700"/>
              </a:spcBef>
              <a:spcAft>
                <a:spcPts val="349"/>
              </a:spcAft>
              <a:buClr>
                <a:srgbClr val="eaeaea"/>
              </a:buClr>
              <a:buFont typeface="Times New Roman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operates under a set of instructions (</a:t>
            </a:r>
            <a:r>
              <a:rPr b="1" lang="en-US" sz="2800" spc="-1" strike="noStrike">
                <a:solidFill>
                  <a:srgbClr val="000054"/>
                </a:solidFill>
                <a:latin typeface="Times New Roman"/>
              </a:rPr>
              <a:t>program</a:t>
            </a: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54"/>
              </a:solidFill>
              <a:latin typeface="Times New Roman"/>
            </a:endParaRPr>
          </a:p>
          <a:p>
            <a:pPr>
              <a:spcBef>
                <a:spcPts val="700"/>
              </a:spcBef>
              <a:spcAft>
                <a:spcPts val="349"/>
              </a:spcAft>
              <a:buClr>
                <a:srgbClr val="eaeaea"/>
              </a:buClr>
              <a:buFont typeface="Times New Roman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accepts data that user supplies</a:t>
            </a:r>
            <a:endParaRPr b="0" lang="en-US" sz="2800" spc="-1" strike="noStrike">
              <a:solidFill>
                <a:srgbClr val="000054"/>
              </a:solidFill>
              <a:latin typeface="Times New Roman"/>
            </a:endParaRPr>
          </a:p>
          <a:p>
            <a:pPr>
              <a:spcBef>
                <a:spcPts val="700"/>
              </a:spcBef>
              <a:spcAft>
                <a:spcPts val="349"/>
              </a:spcAft>
              <a:buClr>
                <a:srgbClr val="eaeaea"/>
              </a:buClr>
              <a:buFont typeface="Times New Roman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manipulates data according to a program</a:t>
            </a:r>
            <a:endParaRPr b="0" lang="en-US" sz="2800" spc="-1" strike="noStrike">
              <a:solidFill>
                <a:srgbClr val="000054"/>
              </a:solidFill>
              <a:latin typeface="Times New Roman"/>
            </a:endParaRPr>
          </a:p>
          <a:p>
            <a:pPr>
              <a:spcBef>
                <a:spcPts val="700"/>
              </a:spcBef>
              <a:spcAft>
                <a:spcPts val="349"/>
              </a:spcAft>
              <a:buClr>
                <a:srgbClr val="eaeaea"/>
              </a:buClr>
              <a:buFont typeface="Times New Roman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produces results</a:t>
            </a:r>
            <a:endParaRPr b="0" lang="en-US" sz="28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Types of Information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Text data – letters, numbers, and special character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Graphic data – photographs, charts, and drawing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Audio data – voice and music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imes New Roman"/>
              </a:rPr>
              <a:t>Video data – moving pictures and images</a:t>
            </a:r>
            <a:endParaRPr b="0" lang="en-US" sz="32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Information Processing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54"/>
                </a:solidFill>
                <a:latin typeface="Times New Roman"/>
              </a:rPr>
              <a:t>Definition: </a:t>
            </a: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Using a computer to convert data into useful information.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Also known as data processing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spcAft>
                <a:spcPts val="476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54"/>
                </a:solidFill>
                <a:latin typeface="Times New Roman"/>
              </a:rPr>
              <a:t>The flow of information through a computer follows a cycle.</a:t>
            </a:r>
            <a:endParaRPr b="0" lang="en-US" sz="3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6EF9-5172-4E82-B1AD-5680FF13217E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4"/>
                </a:solidFill>
                <a:latin typeface="Impact"/>
              </a:rPr>
              <a:t>Information Processing Cycle</a:t>
            </a:r>
            <a:endParaRPr b="0" lang="en-US" sz="4800" spc="-1" strike="noStrike">
              <a:solidFill>
                <a:srgbClr val="000054"/>
              </a:solidFill>
              <a:latin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imes New Roman"/>
              </a:rPr>
              <a:t>A cycle during which a computer enters, processes, outputs and/or stores information.</a:t>
            </a:r>
            <a:endParaRPr b="0" lang="en-US" sz="28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-1371600" y="60958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0340-3B10-4D92-88FC-4629E3B571B1}" type="slidenum">
              <a:rPr b="0" lang="en-US" sz="2400" spc="-1" strike="noStrike">
                <a:solidFill>
                  <a:srgbClr val="000054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8" name="Picture 14" descr="Figure 1-5 Information processing cycle"/>
          <p:cNvPicPr/>
          <p:nvPr/>
        </p:nvPicPr>
        <p:blipFill>
          <a:blip r:embed="rId2"/>
          <a:stretch/>
        </p:blipFill>
        <p:spPr>
          <a:xfrm>
            <a:off x="1066680" y="2514600"/>
            <a:ext cx="7085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01:03:06Z</dcterms:created>
  <dc:creator>BKHS</dc:creator>
  <dc:description/>
  <dc:language>en-US</dc:language>
  <cp:lastModifiedBy>Karen Seabaugh</cp:lastModifiedBy>
  <dcterms:modified xsi:type="dcterms:W3CDTF">2011-02-23T16:46:28Z</dcterms:modified>
  <cp:revision>153</cp:revision>
  <dc:subject/>
  <dc:title>Introduction to Computers</dc:title>
</cp:coreProperties>
</file>