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863-5DA1-4B6D-A0D5-8812F45F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19160" y="412992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A20-D4EC-4385-877F-BC50F118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42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D7C0-4853-4210-99C9-C83ACC3C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980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4008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1916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7980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4008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1E7-38D4-4D1F-A5C8-B457660B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A157-B86E-49D1-A728-E16AA732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26D3-0C16-471E-9296-9ECB8992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70F5-DEAF-4E5C-B221-7589F2B5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553C-85BF-47E3-A29D-483F4704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59D1-7D8C-422B-9BAE-4C0E830A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4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00EA-0C2C-4E04-9C81-D8EE2AD0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131F-FD4A-4CC3-BC9C-9C607393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4A8-A95B-4372-9329-CA1F40C3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42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9511-2AA8-436A-8DB5-33935B95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343A-8E8D-423C-B2AC-1DB8ECE8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19160" y="412992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44C5-9909-4183-9B70-90BEEC9E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42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0401-A045-47CF-B905-CE3FC0C9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980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4008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1916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7980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4008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BC83-3B80-4C80-8F43-6461511E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4FA0-E5C8-427D-A37B-E53158DD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0C3-2DCA-458F-A26A-929CC0FD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9E65-BBB3-45A9-A0E9-60576108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4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5C6-46F3-4C41-B9D2-74E2F06F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234-55A4-42DC-90BA-08CCF1BD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42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9B7-2279-4433-81C4-8C4BE58E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9BD-8F3B-43FB-8967-B9B09111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66"/>
              </a:buClr>
              <a:buSzPct val="12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09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DE5E7D-7DC1-43A0-8C5D-FACD79CA64EC}" type="slidenum">
              <a:rPr b="0" lang="en-GB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680" y="456840"/>
            <a:ext cx="6397920" cy="15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809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471E9-2FB4-4875-BB55-E0E2978FBEF5}" type="slidenum">
              <a:rPr b="0" lang="en-GB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66"/>
              </a:buClr>
              <a:buSzPct val="12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19240" y="990720"/>
            <a:ext cx="63626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B Frutiger Bold"/>
              </a:rPr>
              <a:t>parts of the computer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20960" y="1969920"/>
            <a:ext cx="4708440" cy="4050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467480" y="6330960"/>
            <a:ext cx="1600200" cy="45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600" y="20570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B Frutiger Bold"/>
              </a:rPr>
              <a:t>summary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B Frutiger Bold"/>
              </a:rPr>
              <a:t>exercise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1127160"/>
            <a:ext cx="32767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Utopia"/>
              </a:rPr>
              <a:t>Think of both a computer and a person as information processing machines. Identify the four components of an information-processing device for both and complete the following table.</a:t>
            </a:r>
            <a:endParaRPr b="0" lang="en-US" sz="15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868480"/>
            <a:ext cx="815328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R Frutiger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R Frutiger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R Frutiger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R Frutiger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R Frutiger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R Frutiger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R Frutiger Roman"/>
              </a:rPr>
              <a:t>Computer      Pers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ts val="28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ts val="28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R Frutiger Roman"/>
              </a:rPr>
              <a:t>Input done with:                            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ts val="28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R Frutiger Roman"/>
              </a:rPr>
              <a:t>Information storage done with: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ts val="28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R Frutiger Roman"/>
              </a:rPr>
              <a:t>Processing done by: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ts val="28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R Frutiger Roman"/>
              </a:rPr>
              <a:t>Output done with: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2819520"/>
            <a:ext cx="1440" cy="2666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2819520"/>
            <a:ext cx="1440" cy="2666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2819520"/>
            <a:ext cx="380988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86800" y="2819520"/>
            <a:ext cx="1440" cy="2666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3657600"/>
            <a:ext cx="822960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038480"/>
            <a:ext cx="8229600" cy="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800600"/>
            <a:ext cx="822960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5486400"/>
            <a:ext cx="822960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657600"/>
            <a:ext cx="1440" cy="1828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5181480"/>
            <a:ext cx="8229600" cy="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924680" y="6400800"/>
            <a:ext cx="1067040" cy="299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4419720"/>
            <a:ext cx="822960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28600" y="944640"/>
            <a:ext cx="2209680" cy="21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367000" cy="4273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0152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B Frutiger Bold"/>
              </a:rPr>
              <a:t>technology and the future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22860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SzPct val="120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R Frutiger Roman"/>
              </a:rPr>
              <a:t>Where do you think technology will take us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SzPct val="120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R Frutiger Roman"/>
              </a:rPr>
              <a:t>What new directions do you think technology will go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SzPct val="120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R Frutiger Roman"/>
              </a:rPr>
              <a:t>What is one thing that you wish computers could do now that they might be able to do in the future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924680" y="6400800"/>
            <a:ext cx="1067040" cy="2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505320" y="2001960"/>
            <a:ext cx="4419360" cy="42973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1066320"/>
            <a:ext cx="6019920" cy="22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B Frutiger Bold"/>
              </a:rPr>
              <a:t>how have computers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B Frutiger Bold"/>
              </a:rPr>
              <a:t>affected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B Frutiger Bold"/>
              </a:rPr>
              <a:t>your life?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924680" y="6400800"/>
            <a:ext cx="1067040" cy="2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3417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9000" y="504720"/>
            <a:ext cx="5105520" cy="19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B Frutiger Bold"/>
              </a:rPr>
              <a:t>how has technology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B Frutiger Bold"/>
              </a:rPr>
              <a:t>affected your life?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924680" y="6400800"/>
            <a:ext cx="1067040" cy="2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743200" y="4114800"/>
            <a:ext cx="3657600" cy="2451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2819520" cy="2637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029200" y="762120"/>
            <a:ext cx="3809880" cy="1396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657600" y="1549440"/>
            <a:ext cx="1270080" cy="1879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324480" y="260496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7924680" y="6400800"/>
            <a:ext cx="1067040" cy="2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651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179028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B Frutiger Bold"/>
              </a:rPr>
              <a:t>how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B Frutiger Bold"/>
              </a:rPr>
              <a:t>computers work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95120"/>
            <a:ext cx="3429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SzPct val="120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R Frutiger Roman"/>
              </a:rPr>
              <a:t>Four functions of a comput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1240" indent="-284040">
              <a:lnSpc>
                <a:spcPts val="2387"/>
              </a:lnSpc>
              <a:spcBef>
                <a:spcPts val="550"/>
              </a:spcBef>
              <a:spcAft>
                <a:spcPts val="1001"/>
              </a:spcAft>
              <a:buClr>
                <a:srgbClr val="000066"/>
              </a:buClr>
              <a:buFont typeface="Symbol" charset="2"/>
              <a:buChar char="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R Frutiger Roman"/>
              </a:rPr>
              <a:t> </a:t>
            </a:r>
            <a:r>
              <a:rPr b="0" lang="en-US" sz="2200" spc="-1" strike="noStrike">
                <a:solidFill>
                  <a:srgbClr val="009999"/>
                </a:solidFill>
                <a:latin typeface="R Frutiger Roman"/>
              </a:rPr>
              <a:t>Input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1240" indent="-284040">
              <a:lnSpc>
                <a:spcPts val="2387"/>
              </a:lnSpc>
              <a:spcBef>
                <a:spcPts val="550"/>
              </a:spcBef>
              <a:spcAft>
                <a:spcPts val="1001"/>
              </a:spcAft>
              <a:buClr>
                <a:srgbClr val="000066"/>
              </a:buClr>
              <a:buFont typeface="Symbol" charset="2"/>
              <a:buChar char="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R Frutiger Roman"/>
              </a:rPr>
              <a:t> </a:t>
            </a:r>
            <a:r>
              <a:rPr b="0" lang="en-US" sz="2200" spc="-1" strike="noStrike">
                <a:solidFill>
                  <a:srgbClr val="009999"/>
                </a:solidFill>
                <a:latin typeface="R Frutiger Roman"/>
              </a:rPr>
              <a:t>Process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1240" indent="-284040">
              <a:lnSpc>
                <a:spcPts val="2387"/>
              </a:lnSpc>
              <a:spcBef>
                <a:spcPts val="550"/>
              </a:spcBef>
              <a:spcAft>
                <a:spcPts val="1001"/>
              </a:spcAft>
              <a:buClr>
                <a:srgbClr val="000066"/>
              </a:buClr>
              <a:buFont typeface="Symbol" charset="2"/>
              <a:buChar char="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R Frutiger Roman"/>
              </a:rPr>
              <a:t> </a:t>
            </a:r>
            <a:r>
              <a:rPr b="0" lang="en-US" sz="2200" spc="-1" strike="noStrike">
                <a:solidFill>
                  <a:srgbClr val="009999"/>
                </a:solidFill>
                <a:latin typeface="R Frutiger Roman"/>
              </a:rPr>
              <a:t>Storage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1240" indent="-284040">
              <a:lnSpc>
                <a:spcPts val="2387"/>
              </a:lnSpc>
              <a:spcBef>
                <a:spcPts val="550"/>
              </a:spcBef>
              <a:spcAft>
                <a:spcPts val="1001"/>
              </a:spcAft>
              <a:buClr>
                <a:srgbClr val="000066"/>
              </a:buClr>
              <a:buFont typeface="Symbol" charset="2"/>
              <a:buChar char="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R Frutiger Roman"/>
              </a:rPr>
              <a:t> </a:t>
            </a:r>
            <a:r>
              <a:rPr b="0" lang="en-US" sz="2200" spc="-1" strike="noStrike">
                <a:solidFill>
                  <a:srgbClr val="009999"/>
                </a:solidFill>
                <a:latin typeface="R Frutiger Roman"/>
              </a:rPr>
              <a:t>Output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3809880"/>
            <a:ext cx="2819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Utopia"/>
              </a:rPr>
              <a:t>The motherboard makes these functions occur  by connecting the components that make up a computer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924680" y="6477120"/>
            <a:ext cx="1067040" cy="2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71600" y="1468440"/>
            <a:ext cx="647712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SzPct val="120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_x0008_How the data is entered into a comput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Font typeface="Symbol" charset="2"/>
              <a:buChar char="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Keyboar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Font typeface="Symbol" charset="2"/>
              <a:buChar char="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us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Font typeface="Symbol" charset="2"/>
              <a:buChar char="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icrophon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Font typeface="Symbol" charset="2"/>
              <a:buChar char="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cann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Font typeface="Symbol" charset="2"/>
              <a:buChar char="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mer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001"/>
              </a:spcAft>
              <a:buClr>
                <a:srgbClr val="000066"/>
              </a:buClr>
              <a:buSzPct val="120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_x0008_How it relates to your audienc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49"/>
              </a:spcBef>
              <a:spcAft>
                <a:spcPts val="10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3280" y="2209680"/>
            <a:ext cx="2519640" cy="2057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371600" y="514440"/>
            <a:ext cx="54100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pu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924680" y="6400800"/>
            <a:ext cx="1067040" cy="2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B Frutiger Bold"/>
              </a:rPr>
              <a:t>storag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61960" y="1581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SzPct val="120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R Frutiger Roman"/>
              </a:rPr>
              <a:t>Read Only Memory (ROM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SzPct val="120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R Frutiger Roman"/>
              </a:rPr>
              <a:t>Random Access Memory (RAM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SzPct val="120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R Frutiger Roman"/>
              </a:rPr>
              <a:t>Hard driv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SzPct val="120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R Frutiger Roman"/>
              </a:rPr>
              <a:t>Floppy disk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SzPct val="120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R Frutiger Roman"/>
              </a:rPr>
              <a:t>Zip disks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SzPct val="120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R Frutiger Roman"/>
              </a:rPr>
              <a:t>CD-ROM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10080" y="2743200"/>
            <a:ext cx="254016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17720" y="457200"/>
            <a:ext cx="1039680" cy="1044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924680" y="6400800"/>
            <a:ext cx="1067040" cy="2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B Frutiger Bold"/>
              </a:rPr>
              <a:t>processing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5715000" cy="32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SzPct val="120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R Frutiger Roman"/>
              </a:rPr>
              <a:t>The central processing unit or CPU is the brain of the comput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Font typeface="Symbol" charset="2"/>
              <a:buChar char="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R Frutiger Roman"/>
              </a:rPr>
              <a:t>It interacts with every other part of the comput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Font typeface="Symbol" charset="2"/>
              <a:buChar char="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R Frutiger Roman"/>
              </a:rPr>
              <a:t>It handles the fetch, decode, and execute steps for the comput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Font typeface="Symbol" charset="2"/>
              <a:buChar char="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R Frutiger Roman"/>
              </a:rPr>
              <a:t>It carries out instructio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952880" y="533520"/>
            <a:ext cx="2590920" cy="1616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924680" y="6400800"/>
            <a:ext cx="1067040" cy="2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171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B Frutiger Bold"/>
              </a:rPr>
              <a:t>output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88880" y="26668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SzPct val="120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R Frutiger Roman"/>
              </a:rPr>
              <a:t>Monit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SzPct val="120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R Frutiger Roman"/>
              </a:rPr>
              <a:t>Print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SzPct val="120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R Frutiger Roman"/>
              </a:rPr>
              <a:t>Plott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66"/>
              </a:buClr>
              <a:buSzPct val="120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R Frutiger Roman"/>
              </a:rPr>
              <a:t>Speak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4495680"/>
            <a:ext cx="2666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Utopia"/>
              </a:rPr>
              <a:t>The  computer-generated information that is displayed to the user in some form such as screen display, printed page, or sound.</a:t>
            </a:r>
            <a:endParaRPr b="0" lang="en-US" sz="15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352680" y="3301920"/>
            <a:ext cx="1905120" cy="3556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924680" y="6400800"/>
            <a:ext cx="1067040" cy="29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ray</cp:lastModifiedBy>
  <dcterms:modified xsi:type="dcterms:W3CDTF">2006-08-29T16:17:47Z</dcterms:modified>
  <cp:revision>2</cp:revision>
  <dc:subject/>
  <dc:title>parts of the computer</dc:title>
</cp:coreProperties>
</file>