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73D4-19E4-477E-AB0C-B54A6283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A00C-1ED6-45BE-956D-DCB5F9E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4D5B-C223-47DA-8B83-3DBF7480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CD26-88C9-4519-902D-0EFDAB2D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70FA-2F0C-4995-BC4F-F9F943B8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36B4-42A6-4A58-9C2C-01538AD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26A8-B92D-4962-B8C1-9BB6C6E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038-FDF0-4BE6-A606-351AB85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88C-14BE-40E6-94D8-BEC932C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B5E-E186-4DB1-BBDD-0C10C88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1E1-02A3-491E-A105-499404F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81B1-C285-43E2-AE08-0FEACEA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3DC8-FC7D-4D25-A8F0-D4BE9DA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2E8E-F360-42F4-B8AB-BD51BC2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E1F-046D-49CE-A052-746306D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636A-56C4-4F0F-BCBF-EB8C6E8A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0ED3-BAFD-4648-A1A5-155005F1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F571-5ADE-463A-A444-69FCE05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4EDC-9032-4DCC-9708-E822FF04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40AC-AD85-4057-A64C-1ACA0F3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4238-240F-47C8-BF6A-F9FD00F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407E-A222-4808-AAF1-87D3B93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A94B-48FD-4DE6-8E3B-C80B0AE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2B1B-9D11-4904-8620-1DF7445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6D1-3F4F-4C7A-B5BC-3FB264BA5FC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EDD-FE6C-4C5E-9661-03A02E54590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uter Use Guideli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TE Intro Business Lab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wnloa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load internet plug-ins, graphic images, games or sound clips (MP3 files) unless you are specifically assigned to as part of an assig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ring any software from home to install on the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are assigned to download a sound clip or image, they must NOT be offensive, obscene or in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lay sounds unless they are part of your pres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keep the speaker volume 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-mail &amp; Internet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school computers to check, send or receive e-mail unless you are specifically instructed to do 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internet without per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MAY 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cess websites you are given permission to access by your tea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O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these policies may result in loss of all computer privileges at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uter Set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the wallpaper or screensa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load wallpapers or screensavers from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desktop schemes: colors, fon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the mouse or monitor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uter Set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Don’t change the wallpaper or screensa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Don’t download wallpapers or screensavers from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Don’t change desktop schemes: colors, fon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Don’t change the mouse or monitor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uter Set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the wallpaper or screensa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load wallpapers or screensavers from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desktop schemes: colors, fon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the mouse or monitor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ceptable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s who don’t follow the Acceptable Use Agreement will lose computer privileges throughout the entire school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j0286034"/>
          <p:cNvPicPr/>
          <p:nvPr/>
        </p:nvPicPr>
        <p:blipFill>
          <a:blip r:embed="rId1"/>
          <a:stretch/>
        </p:blipFill>
        <p:spPr>
          <a:xfrm>
            <a:off x="2590920" y="3657600"/>
            <a:ext cx="3051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Print when you are asked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t the Print Preview button before you Pr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print more than once if the document doesn’t pri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j0233856[1]"/>
          <p:cNvPicPr/>
          <p:nvPr/>
        </p:nvPicPr>
        <p:blipFill>
          <a:blip r:embed="rId1"/>
          <a:stretch/>
        </p:blipFill>
        <p:spPr>
          <a:xfrm>
            <a:off x="5334120" y="2362320"/>
            <a:ext cx="26636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any problems or error messages to your instru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tempt to fix them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tart the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j0231637[1]"/>
          <p:cNvPicPr/>
          <p:nvPr/>
        </p:nvPicPr>
        <p:blipFill>
          <a:blip r:embed="rId1"/>
          <a:stretch/>
        </p:blipFill>
        <p:spPr>
          <a:xfrm>
            <a:off x="3471840" y="1981080"/>
            <a:ext cx="2198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tect your work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and Save your project shortly after you star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often (not less than every 5 minu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j0205466"/>
          <p:cNvPicPr/>
          <p:nvPr/>
        </p:nvPicPr>
        <p:blipFill>
          <a:blip r:embed="rId1"/>
          <a:stretch/>
        </p:blipFill>
        <p:spPr>
          <a:xfrm>
            <a:off x="1566720" y="301932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g O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you are finished working, Log the computer off but don’t shut it dow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ave the computer ready for the next us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leave messages on the Login Scre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j0215035[1]"/>
          <p:cNvPicPr/>
          <p:nvPr/>
        </p:nvPicPr>
        <p:blipFill>
          <a:blip r:embed="rId1"/>
          <a:stretch/>
        </p:blipFill>
        <p:spPr>
          <a:xfrm>
            <a:off x="4721400" y="2484360"/>
            <a:ext cx="388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uters are Important Tool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ing 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d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media Presen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j0198770[1]"/>
          <p:cNvPicPr/>
          <p:nvPr/>
        </p:nvPicPr>
        <p:blipFill>
          <a:blip r:embed="rId1"/>
          <a:stretch/>
        </p:blipFill>
        <p:spPr>
          <a:xfrm>
            <a:off x="5740560" y="2979720"/>
            <a:ext cx="18525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quet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lasses use our lab.  Before you leave, please take a minute and clean up the area around your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j0131785[1]"/>
          <p:cNvPicPr/>
          <p:nvPr/>
        </p:nvPicPr>
        <p:blipFill>
          <a:blip r:embed="rId1"/>
          <a:stretch/>
        </p:blipFill>
        <p:spPr>
          <a:xfrm>
            <a:off x="228600" y="25146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4798E-006 C 0.01441 0.01249 0.02726 0.01942 0.04445 0.02312 C 0.06302 0.02104 0.0816 0.02035 0.1 0.01688 C 0.11962 0.01318 0.14011 -0.00462 0.15712 -0.01711 C 0.18351 -0.03653 0.20608 -0.05595 0.23021 -0.08046 C 0.23403 -0.08439 0.23611 -0.09064 0.23959 -0.09526 C 0.2415 -0.0978 0.24393 -0.09942 0.24601 -0.1015 C 0.24792 -0.10659 0.25209 -0.11052 0.25243 -0.1163 C 0.25382 -0.1341 0.24566 -0.13942 0.23646 -0.14798 C 0.21719 -0.16601 0.19375 -0.1711 0.17136 -0.17988 C 0.16077 -0.17919 0.15018 -0.17642 0.13959 -0.17757 C 0.13924 -0.17757 0.15556 -0.18289 0.15868 -0.18405 C 0.17153 -0.18821 0.18386 -0.19029 0.19688 -0.19237 C 0.21111 -0.19168 0.22552 -0.19283 0.23959 -0.19029 C 0.24479 -0.18936 0.24914 -0.18451 0.254 -0.18197 C 0.2717 -0.17272 0.28768 -0.16139 0.30469 -0.15029 C 0.3099 -0.14127 0.31615 -0.1348 0.32223 -0.12694 C 0.32761 -0.10543 0.31476 -0.08208 0.30955 -0.0615 C 0.30747 -0.04185 0.30591 -0.03468 0.30955 -0.01064 C 0.31059 -0.00393 0.3217 0.00416 0.32535 0.00624 C 0.34809 0.01965 0.36875 0.02474 0.39358 0.02728 C 0.40313 0.02936 0.41094 0.03098 0.4191 0.03792 C 0.42014 0.04069 0.42205 0.04324 0.42223 0.04647 C 0.42327 0.05965 0.41389 0.06613 0.40799 0.07399 C 0.40278 0.08116 0.3967 0.0874 0.39045 0.09295 C 0.38733 0.09572 0.38368 0.0978 0.38091 0.10127 C 0.37466 0.10867 0.37257 0.11884 0.36667 0.12671 C 0.36632 0.12832 0.3632 0.14035 0.36354 0.1415 C 0.36424 0.14358 0.36667 0.14289 0.36823 0.14358 C 0.37032 0.14289 0.37275 0.14312 0.37466 0.1415 C 0.39809 0.12231 0.34393 0.09988 0.34289 0.09919 C 0.33594 0.09503 0.32813 0.09387 0.32066 0.09087 C 0.28924 0.07838 0.25729 0.07098 0.22535 0.06127 C 0.21042 0.05688 0.19566 0.05133 0.18091 0.04647 C 0.17622 0.04486 0.16667 0.04208 0.16667 0.04208 C 0.15955 0.03746 0.15486 0.03653 0.16979 0.03584 C 0.19792 0.03468 0.22587 0.03445 0.254 0.03376 C 0.2783 0.0296 0.30261 0.0252 0.32691 0.02104 C 0.34132 0.0185 0.35556 0.01434 0.36979 0.0104 C 0.43664 -0.00809 0.52865 -0.04023 0.54445 -0.1459 C 0.54254 -0.15861 0.54098 -0.17803 0.53334 -0.18821 C 0.51302 -0.21572 0.48334 -0.22543 0.45556 -0.23052 C 0.43229 -0.23468 0.38577 -0.24116 0.38577 -0.24116 C 0.34653 -0.23699 0.30729 -0.23353 0.26823 -0.22844 C 0.26615 -0.22775 0.26042 -0.22405 0.26181 -0.22636 C 0.27292 -0.24462 0.29236 -0.24532 0.30313 -0.26428 C 0.30729 -0.28139 0.28108 -0.28601 0.27136 -0.28971 C 0.26025 -0.29387 0.24948 -0.29965 0.23802 -0.30243 C 0.21216 -0.30867 0.18629 -0.30936 0.16025 -0.31306 C 0.12118 -0.31884 0.08195 -0.32532 0.04289 -0.32994 C 0.0349 -0.32925 0.02691 -0.32948 0.0191 -0.32786 C 0.00382 -0.32486 -0.01527 -0.30682 -0.02708 -0.29827 C -0.05416 -0.27861 -0.07552 -0.25549 -0.09201 -0.21988 C -0.10295 -0.1704 -0.08229 -0.14751 -0.05086 -0.1311 C -0.01892 -0.11445 0.01441 -0.10566 0.04601 -0.08879 C 0.05521 -0.08393 0.06302 -0.08139 0.06979 -0.07191 C 0.07309 -0.0585 0.06823 -0.05387 0.05868 -0.05087 C 0.02292 -0.05364 -0.00746 -0.05434 -0.04444 -0.05295 C -0.05295 -0.05133 -0.06163 -0.0504 -0.06979 -0.04671 C -0.07205 -0.03838 -0.07465 -0.03399 -0.07934 -0.02751 C -0.08194 -0.01387 -0.08715 -0.000920000000000001 -0.09045 0.01249 C -0.08941 0.01965 -0.08941 0.02705 -0.08732 0.03376 C -0.08663 0.03607 -0.0842 0.0363 -0.08264 0.03792 C -0.08142 0.03908 -0.08073 0.04139 -0.07934 0.04208 C -0.07864 0.04231 -0.0783 0.04069 -0.07777 0.04 E">
                                      <p:cBhvr>
                                        <p:cTn id="281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re Drills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find yourself at the computer when the fire alarm goes off.  For your safety, please follow these guide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j0198269[1]"/>
          <p:cNvPicPr/>
          <p:nvPr/>
        </p:nvPicPr>
        <p:blipFill>
          <a:blip r:embed="rId1"/>
          <a:stretch/>
        </p:blipFill>
        <p:spPr>
          <a:xfrm>
            <a:off x="5029200" y="2770200"/>
            <a:ext cx="32767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Drills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g off comput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eave the room as quickly and orderly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llow school evacuation procedures as demonstrated by your tea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j0290840[1]"/>
          <p:cNvPicPr/>
          <p:nvPr/>
        </p:nvPicPr>
        <p:blipFill>
          <a:blip r:embed="rId1"/>
          <a:stretch/>
        </p:blipFill>
        <p:spPr>
          <a:xfrm>
            <a:off x="1508040" y="2681280"/>
            <a:ext cx="1935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ceptable Use Agre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using a computer at school, carefully read and sign the district Acceptable Computer Use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arents must also sig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must be on file with the schoo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9" descr="BS00513_[1]"/>
          <p:cNvPicPr/>
          <p:nvPr/>
        </p:nvPicPr>
        <p:blipFill>
          <a:blip r:embed="rId1"/>
          <a:stretch/>
        </p:blipFill>
        <p:spPr>
          <a:xfrm>
            <a:off x="4645080" y="2282760"/>
            <a:ext cx="4041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i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the proper Username and Password from your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give your password to anyone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forget your password, ask your instructor for hel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3" descr="Netware Login"/>
          <p:cNvPicPr/>
          <p:nvPr/>
        </p:nvPicPr>
        <p:blipFill>
          <a:blip r:embed="rId1"/>
          <a:srcRect l="0" t="-225" r="0" b="0"/>
          <a:stretch/>
        </p:blipFill>
        <p:spPr>
          <a:xfrm>
            <a:off x="457200" y="2971800"/>
            <a:ext cx="4038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i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responsible for what happens on a computer when it is logged in under your na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VER NEVER NEV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YOUR LOGIN WITH ANYON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8" descr="BS00714_[1]"/>
          <p:cNvPicPr/>
          <p:nvPr/>
        </p:nvPicPr>
        <p:blipFill>
          <a:blip r:embed="rId1"/>
          <a:stretch/>
        </p:blipFill>
        <p:spPr>
          <a:xfrm>
            <a:off x="3627360" y="1981080"/>
            <a:ext cx="18874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j0295069[1]"/>
          <p:cNvPicPr/>
          <p:nvPr/>
        </p:nvPicPr>
        <p:blipFill>
          <a:blip r:embed="rId1"/>
          <a:stretch/>
        </p:blipFill>
        <p:spPr>
          <a:xfrm>
            <a:off x="3200400" y="4419720"/>
            <a:ext cx="2819520" cy="2027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NA01595_[1]"/>
          <p:cNvPicPr/>
          <p:nvPr/>
        </p:nvPicPr>
        <p:blipFill>
          <a:blip r:embed="rId2"/>
          <a:stretch/>
        </p:blipFill>
        <p:spPr>
          <a:xfrm>
            <a:off x="3352680" y="4419720"/>
            <a:ext cx="218304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pect Our School Equipmen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eep pens and pencils away from the computers.  Do not draw on or disfigure any part of the computer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take care of the equipment, it will last a long ti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pect our School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ing Candy, Drinks, Gum or any food near the compute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 EVEN WATER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90234[1]"/>
          <p:cNvPicPr/>
          <p:nvPr/>
        </p:nvPicPr>
        <p:blipFill>
          <a:blip r:embed="rId1"/>
          <a:stretch/>
        </p:blipFill>
        <p:spPr>
          <a:xfrm>
            <a:off x="6095880" y="1752480"/>
            <a:ext cx="2105280" cy="186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232694[1]"/>
          <p:cNvPicPr/>
          <p:nvPr/>
        </p:nvPicPr>
        <p:blipFill>
          <a:blip r:embed="rId2"/>
          <a:stretch/>
        </p:blipFill>
        <p:spPr>
          <a:xfrm>
            <a:off x="5638680" y="3657600"/>
            <a:ext cx="935280" cy="1866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0232774[2]"/>
          <p:cNvPicPr/>
          <p:nvPr/>
        </p:nvPicPr>
        <p:blipFill>
          <a:blip r:embed="rId3"/>
          <a:stretch/>
        </p:blipFill>
        <p:spPr>
          <a:xfrm>
            <a:off x="7162920" y="3886200"/>
            <a:ext cx="156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pect our School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GNE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SOLUTELY FORBIDDE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computers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NA00056_[1]"/>
          <p:cNvPicPr/>
          <p:nvPr/>
        </p:nvPicPr>
        <p:blipFill>
          <a:blip r:embed="rId1"/>
          <a:stretch/>
        </p:blipFill>
        <p:spPr>
          <a:xfrm>
            <a:off x="5180040" y="2189160"/>
            <a:ext cx="2975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IMINATE VIRUSES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pu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mputer.  If you need to use a disk or CD, contact your teacher for permission fir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j0245335[1]"/>
          <p:cNvPicPr/>
          <p:nvPr/>
        </p:nvPicPr>
        <p:blipFill>
          <a:blip r:embed="rId1"/>
          <a:stretch/>
        </p:blipFill>
        <p:spPr>
          <a:xfrm>
            <a:off x="841320" y="2130480"/>
            <a:ext cx="32702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21:23:52Z</dcterms:created>
  <dc:creator>Mike Wood</dc:creator>
  <dc:description/>
  <dc:language>en-US</dc:language>
  <cp:lastModifiedBy>Teacher</cp:lastModifiedBy>
  <dcterms:modified xsi:type="dcterms:W3CDTF">2010-03-08T19:16:01Z</dcterms:modified>
  <cp:revision>9</cp:revision>
  <dc:subject/>
  <dc:title>Computer Use Guidelines</dc:title>
</cp:coreProperties>
</file>